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012-C057-4F76-A146-4970E196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896-DAB0-4802-92E9-DC28E636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9EB-61EE-490F-9DF9-D738D053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A15-92EA-441C-9171-0E0CDAAA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3929-83AE-42DC-B704-CF067F9A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D78-09B8-4A7E-9D90-E10A8C51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E1E0-129B-43AC-9F7E-3CC705F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3BCE-D628-45B6-AD62-2A16928D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5784-5031-42BE-8655-C4819518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F168-6D16-486E-9A2E-8FB71130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288-12EE-4B63-8715-5E0E2C6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E3D-45A0-412A-AA7E-6736409F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D1E9-1F25-4F77-A1BE-1DA0C8E1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E748-66EB-4930-8BFA-BE127EB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BB5E-8209-4AC6-A202-FCF48BA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9EA-37CA-436A-AA45-1E6283CA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58CA-E010-4D4A-B062-619CB045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A040B-D30B-4552-B6B6-86A3B6C9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97873-BFE2-489F-98D1-7894D069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0FAB1-12E4-4382-9850-B9EDAA9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13295-C220-4F3C-B75B-23AC565A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2803D-FD14-4B69-98D5-66D3BCA0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3A9-639E-4733-8E8B-6E1DF079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A7310-6148-44CD-AED8-051B8448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872C-3540-4727-8F9E-BEF3345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45253-2125-4282-9310-29EFB1DC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7ECD2-ED0D-4826-90D6-780AEC4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6F91B-6F94-48F3-9803-2D10C3C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26B6D-BDCE-4CD9-B4F2-41CE1943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02CF5-99AC-4A54-982C-29D9473D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C862-3678-495A-8363-5D38A583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4BED-5B6D-4B72-9681-A55CBD44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26D6-471F-463F-BA6B-73AD7CD3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908-3CF9-4D8E-9F78-99FBCBA4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5858-2E22-4E01-9586-1A73B39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5FC7D-3800-405A-A715-46A9F452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AFCE-BE2C-4E97-AB0B-194837D4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D4AC-7BB9-4510-BC2B-3EA0D4F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78AA-7F50-4117-A229-6136D1AC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38B5-2322-45A5-B7D1-41E5B9C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B880-9042-4A03-8282-004F1A58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7795-8FAB-45FB-B45C-83170633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8C6D-D839-416B-884F-305A219A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45B-153C-4394-8C29-1C5EEE7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270-1990-4EA0-A087-F44E60C9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577-C4A0-4671-BCDE-412F781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4A0-1905-402D-A3CC-359AF68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67B-7657-4B58-9A6C-C02DE7A1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E868-4B8E-4479-A2A4-7410734A3C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2B29-7D38-41D2-9161-0C7816796D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4EF3-9342-4F22-BEF3-80A497EAB7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1ED8-A9AE-4B50-9C62-91E87FA42E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Copperplate Gothic Bold"/>
              </a:rPr>
              <a:t>Motivation</a:t>
            </a: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5" descr="lion-zebra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is it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s affecting the initiation, direction, intensity, and persistence of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ources of motivation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Biological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motional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ognitive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oci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ories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5" descr="engine"/>
          <p:cNvPicPr/>
          <p:nvPr/>
        </p:nvPicPr>
        <p:blipFill>
          <a:blip r:embed="rId1"/>
          <a:stretch/>
        </p:blipFill>
        <p:spPr>
          <a:xfrm>
            <a:off x="5029200" y="3886200"/>
            <a:ext cx="34290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424456"/>
                </a:solidFill>
                <a:uFillTx/>
                <a:latin typeface="Georgia"/>
              </a:rPr>
              <a:t>Instinct Theory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59984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Instinct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automatic, involuntary, and unlearned behavior patterns that are consistently ‘released’ in response to certain stimul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instincts grew too long—they started to become </a:t>
            </a:r>
            <a:r>
              <a:rPr b="0" i="1" lang="en-US" sz="2000" spc="-1" strike="noStrike" u="sng">
                <a:solidFill>
                  <a:srgbClr val="438086"/>
                </a:solidFill>
                <a:uFillTx/>
                <a:latin typeface="Georgia"/>
              </a:rPr>
              <a:t>descriptions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rather than </a:t>
            </a:r>
            <a:r>
              <a:rPr b="0" i="1" lang="en-US" sz="2000" spc="-1" strike="noStrike" u="sng">
                <a:solidFill>
                  <a:srgbClr val="438086"/>
                </a:solidFill>
                <a:uFillTx/>
                <a:latin typeface="Georgia"/>
              </a:rPr>
              <a:t>explanation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nstinct theory cannot accommodate the role of learnin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1" name="Picture 5" descr="gja0092l"/>
          <p:cNvPicPr/>
          <p:nvPr/>
        </p:nvPicPr>
        <p:blipFill>
          <a:blip r:embed="rId1"/>
          <a:stretch/>
        </p:blipFill>
        <p:spPr>
          <a:xfrm>
            <a:off x="5257800" y="2438280"/>
            <a:ext cx="3457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4456"/>
                </a:solidFill>
                <a:latin typeface="Trebuchet MS"/>
              </a:rPr>
              <a:t>Drive-Reduction Theo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0720"/>
            <a:ext cx="777240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omeostas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—tendency of the body to return to, and remain in, a more balanced st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.R.T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Motivation is tied to imbalances in Homeost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x: Furnac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x: Feeling hungry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4" name="Picture 4" descr="MyersPsy8e_fig"/>
          <p:cNvPicPr/>
          <p:nvPr/>
        </p:nvPicPr>
        <p:blipFill>
          <a:blip r:embed="rId1"/>
          <a:stretch/>
        </p:blipFill>
        <p:spPr>
          <a:xfrm>
            <a:off x="533520" y="5410080"/>
            <a:ext cx="8231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usal &amp; Incentive Theor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rousal = people act to maintain a personal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optimal arousal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eking excitement when bored &amp; relaxation when overexcite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entive 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havior is goal directed, gaining positive incentives and avoiding negative o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ternal stimuli motivate our behavi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entives – Pu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rives - Pu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gnitive Theo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776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trinsic Motivation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tivities or behaviors that reduce biological needs or help us obtain incentives or external rewar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mmission; airline miles; extra credi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trinsic Motiva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tivities or behaviors that ar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personall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warding or they fulfill our beliefs or expectation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rathons; hobbies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0" name="Picture 5" descr="London_marathon_runner_wdi45992"/>
          <p:cNvPicPr/>
          <p:nvPr/>
        </p:nvPicPr>
        <p:blipFill>
          <a:blip r:embed="rId1"/>
          <a:stretch/>
        </p:blipFill>
        <p:spPr>
          <a:xfrm>
            <a:off x="304920" y="22096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maslow"/>
          <p:cNvPicPr/>
          <p:nvPr/>
        </p:nvPicPr>
        <p:blipFill>
          <a:blip r:embed="rId1"/>
          <a:stretch/>
        </p:blipFill>
        <p:spPr>
          <a:xfrm>
            <a:off x="2897280" y="1752480"/>
            <a:ext cx="5484600" cy="4800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4456"/>
                </a:solidFill>
                <a:uFillTx/>
                <a:latin typeface="Rockwell Extra Bold"/>
              </a:rPr>
              <a:t>Hierarchy of Nee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533520" y="220968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Biological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Social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2:58:47Z</dcterms:created>
  <dc:creator>tmacleod</dc:creator>
  <dc:description/>
  <dc:language>en-US</dc:language>
  <cp:lastModifiedBy>hberndt</cp:lastModifiedBy>
  <dcterms:modified xsi:type="dcterms:W3CDTF">2009-04-16T17:35:54Z</dcterms:modified>
  <cp:revision>13</cp:revision>
  <dc:subject/>
  <dc:title>Motivation </dc:title>
</cp:coreProperties>
</file>